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4C68-36CD-40C6-990C-D91213BC195D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AE8-E910-4476-BC56-D3692DFD6B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膠水樽回收量增加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但固體廢物量同時增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不能因推高回收量而不斷用膠水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習慣：貪方便，不自攜水樽外出，不先清洗膠樽才放入回收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701-7017-46B8-BA8A-6A4F1CA1D0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活動背後的理念，第一：增加回收量，第二：實施源頭減廢，第三：培養市民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活動可增加回收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但成效並不彰顯，因為塑膠廢物量仍然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推行政策的力度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A982-45E8-4095-B57A-795380A41C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活動可增加回收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教育推廣仍然不足，雖繼續積極培養市民的分類意識，在社會上締造良好的環保風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6EE-3C7E-47CC-B195-E73919C57F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仍有待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量少，因為環保園位置偏遠，物流成本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由於回收量不達標，園內機器沒有完全被使用，出現浪費的情況，變相是增加了成本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495-CB64-4A38-BEC6-74EB31E60B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很多市民仍以為只有膠樽可回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用完的塑膠容器投入回收箱，令回收箱內的塑膠因污染而不能使用，亦</a:t>
            </a: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減低回收品的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仍有待改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4870-3F27-4DE0-8015-E2E71839CC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607-11DF-4687-8989-A7710B02DCF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完的塑膠容器投入回收箱，有機會污染其他原本乾淨的塑膠製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到受污染的塑膠，回收工人需加以清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到未拆招紙的塑膠製品，回收工人需以人手加以清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E632-5385-4F9D-ACDB-F1034D638A5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市面上很多物品都是由塑膠製成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手機機殼、電腦外殼，全都是塑膠製品，時常更換會增加不少塑膠廢物的產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F4C-1186-4BBE-986C-6CFF211264B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5C4-F87E-40D6-94F2-C28E4575A4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廢物量每年持續遞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以都市廢物為例，在環保署成立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8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至今，平均每年都有增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加上期間香港人口激增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本港的都市固體廢物人均棄置量為每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.35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195-4BFE-48EB-9E5D-D779BAC0E6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947-DEDC-4F5D-884A-5DB646F396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塑料廢物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佔都市固體廢物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；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則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1%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比重在一年之間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57C3-6D7C-434B-8C2A-29CE6F1F74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香港的都市固體廢物回收量，除了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輕微下降之外，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所回收的都市固體廢物整體上有上升的趨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7C3-FB2A-491F-8FF6-F2687275F3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99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，回收塑膠的情況並沒有顯著增長或減少，直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200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年以後，回收數量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5,000,0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噸急升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15,000,0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公噸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塑膠回收的情況正在不斷改善，但仍有進步的空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0FC4-5FB4-4762-A73E-567CA1B71D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1AB-7C11-4442-B6FE-AA7BC692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25D-14F4-4D47-B581-D0C7EC23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670-3FD4-468F-8E5F-A479B5FD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31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31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1D-9E6A-4566-BBCF-FC2363CF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552A-85C4-4CAE-B4DE-6E34362B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D341-87A6-4E43-9D11-7ADE964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946B-EC92-4BF6-981D-6DE70E8B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51D-83A1-4153-A57C-413BE8EF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50AA-DB5F-4124-96B1-9A560185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772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D8D3-39F6-4DC5-843C-D9E1399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58FC-4FA4-4A0D-A7BF-012A54B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EA8-58FA-4CAA-8CFE-CFEF087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BA9-6D0D-4CCC-AEA0-0DC21AF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2964-6D3C-4AA4-83D8-11AC9A8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6BBF-220E-4AEF-A0F5-EC61F50C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5EA-3E06-4802-867A-52EC16BC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31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48520" y="155592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31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48520" y="3888360"/>
            <a:ext cx="2576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2163-22F4-42B4-BF1F-4419C27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C8B-B59D-4195-88BE-F749AA4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216-EBE3-4886-B0B5-D650223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92-2639-48ED-9762-F2E9F18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656-E578-4D46-9B43-5A8DB1A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10C-639E-4AE0-94D4-E7137D0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7400" y="388836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AB5-9E86-407E-8C89-1E3BD3A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400" y="1555920"/>
            <a:ext cx="39042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88360"/>
            <a:ext cx="80010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820-A0B1-4CE8-94C2-1BB06E5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Rectangle 6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40CE-997B-4001-8458-5157F8D811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49" name="Rectangle 3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53" name="Rectangle 7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9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AFE-A632-49C7-8B76-6DA6878DE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課節一：塑膠廢物知多少？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B1A-F563-4732-96CB-CEEE3A3064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69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小點子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9000" y="1483920"/>
            <a:ext cx="7496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從以下層面作出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人習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濟考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社會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67F-FFAF-4D0B-9F62-DA3EC5BCE0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小組討論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4454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人習慣（資料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量使用塑膠水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用完的塑膠容器投入回收箱，令回收箱內的塑膠因污染而不能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289320" cy="22942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1CC8-EDDD-4ED2-9F19-943EA6B38B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loud Callout 7"/>
          <p:cNvSpPr/>
          <p:nvPr/>
        </p:nvSpPr>
        <p:spPr>
          <a:xfrm>
            <a:off x="611280" y="4365720"/>
            <a:ext cx="4608360" cy="208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loud Callout 8"/>
          <p:cNvSpPr/>
          <p:nvPr/>
        </p:nvSpPr>
        <p:spPr>
          <a:xfrm>
            <a:off x="5219640" y="3933720"/>
            <a:ext cx="3745080" cy="1800360"/>
          </a:xfrm>
          <a:prstGeom prst="cloudCallout">
            <a:avLst>
              <a:gd name="adj1" fmla="val 31273"/>
              <a:gd name="adj2" fmla="val 5374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116000" y="479736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這些習慣對塑膠廢物的製造量有何影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對回收量又有甚麼影響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5580000" y="4365720"/>
            <a:ext cx="28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能歸納出香港人的哪些生活習慣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770520" y="3500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太陽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504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政策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聯同地區組織舉辦回收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膠袋徵費計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推動源頭減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668840" y="4149720"/>
            <a:ext cx="407988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2232000" cy="33037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38B-4CBB-44E3-BCA7-9971AAD649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1332000" y="53341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舉辦這些活動背後的理念是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 Callout 9"/>
          <p:cNvSpPr/>
          <p:nvPr/>
        </p:nvSpPr>
        <p:spPr>
          <a:xfrm>
            <a:off x="1332000" y="2781360"/>
            <a:ext cx="3527280" cy="2087640"/>
          </a:xfrm>
          <a:prstGeom prst="cloudCallout">
            <a:avLst>
              <a:gd name="adj1" fmla="val -52180"/>
              <a:gd name="adj2" fmla="val -27162"/>
            </a:avLst>
          </a:prstGeom>
          <a:solidFill>
            <a:srgbClr val="ff00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2050920" y="30830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這些活動對回收有甚麼幫助？成效是否彰顯？為甚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 Callout 7"/>
          <p:cNvSpPr/>
          <p:nvPr/>
        </p:nvSpPr>
        <p:spPr>
          <a:xfrm>
            <a:off x="971640" y="4940280"/>
            <a:ext cx="3456000" cy="1441440"/>
          </a:xfrm>
          <a:prstGeom prst="cloudCallout">
            <a:avLst>
              <a:gd name="adj1" fmla="val 36750"/>
              <a:gd name="adj2" fmla="val 41773"/>
            </a:avLst>
          </a:prstGeom>
          <a:solidFill>
            <a:srgbClr val="ff00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4101840" cy="58068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1480-79C9-4BB3-8043-0E8C7AE0E7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 Callout 7"/>
          <p:cNvSpPr/>
          <p:nvPr/>
        </p:nvSpPr>
        <p:spPr>
          <a:xfrm>
            <a:off x="1332000" y="2060640"/>
            <a:ext cx="2736720" cy="1944720"/>
          </a:xfrm>
          <a:prstGeom prst="cloudCallout">
            <a:avLst>
              <a:gd name="adj1" fmla="val 48870"/>
              <a:gd name="adj2" fmla="val 32504"/>
            </a:avLst>
          </a:pr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906560" y="2527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對回收量有甚麼影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 Callout 9"/>
          <p:cNvSpPr/>
          <p:nvPr/>
        </p:nvSpPr>
        <p:spPr>
          <a:xfrm>
            <a:off x="1042920" y="4005360"/>
            <a:ext cx="3745080" cy="2376360"/>
          </a:xfrm>
          <a:prstGeom prst="cloudCallout">
            <a:avLst>
              <a:gd name="adj1" fmla="val 50439"/>
              <a:gd name="adj2" fmla="val -58972"/>
            </a:avLst>
          </a:pr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547640" y="4437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足夠嗎？市民的生活習慣有沒有明顯的改善？欠了甚麼動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7194600" y="6165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971640" y="1131840"/>
            <a:ext cx="374472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政府聯同學校舉辦回收教育推廣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00000" y="331560"/>
            <a:ext cx="446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育推廣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5977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濟考慮（資料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園營運成本高達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1020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量少，不達目標的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4132080" cy="302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rcRect l="0" t="0" r="0" b="3058"/>
          <a:stretch/>
        </p:blipFill>
        <p:spPr>
          <a:xfrm>
            <a:off x="5867280" y="549360"/>
            <a:ext cx="2675160" cy="259236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EF2-DA69-409C-B0E5-EA91F951CD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258920" y="2421000"/>
            <a:ext cx="3168720" cy="1511280"/>
            <a:chOff x="1258920" y="2421000"/>
            <a:chExt cx="3168720" cy="1511280"/>
          </a:xfrm>
        </p:grpSpPr>
        <p:sp>
          <p:nvSpPr>
            <p:cNvPr id="239" name="Cloud 9"/>
            <p:cNvSpPr/>
            <p:nvPr/>
          </p:nvSpPr>
          <p:spPr>
            <a:xfrm>
              <a:off x="1258920" y="2421000"/>
              <a:ext cx="3097440" cy="15112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00b0f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0"/>
            <p:cNvSpPr/>
            <p:nvPr/>
          </p:nvSpPr>
          <p:spPr>
            <a:xfrm>
              <a:off x="1330920" y="2564640"/>
              <a:ext cx="3096720" cy="708480"/>
            </a:xfrm>
            <a:prstGeom prst="cloudCallout">
              <a:avLst>
                <a:gd name="adj1" fmla="val -20837"/>
                <a:gd name="adj2" fmla="val 1508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為甚麼回收量會這麼少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1116000" y="4221000"/>
            <a:ext cx="3529080" cy="2160720"/>
            <a:chOff x="1116000" y="4221000"/>
            <a:chExt cx="3529080" cy="2160720"/>
          </a:xfrm>
        </p:grpSpPr>
        <p:sp>
          <p:nvSpPr>
            <p:cNvPr id="242" name="Cloud Callout 8"/>
            <p:cNvSpPr/>
            <p:nvPr/>
          </p:nvSpPr>
          <p:spPr>
            <a:xfrm>
              <a:off x="1116000" y="4221000"/>
              <a:ext cx="3529080" cy="2160720"/>
            </a:xfrm>
            <a:prstGeom prst="cloudCallout">
              <a:avLst>
                <a:gd name="adj1" fmla="val 46175"/>
                <a:gd name="adj2" fmla="val 34041"/>
              </a:avLst>
            </a:prstGeom>
            <a:solidFill>
              <a:srgbClr val="00b0f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1"/>
            <p:cNvSpPr/>
            <p:nvPr/>
          </p:nvSpPr>
          <p:spPr>
            <a:xfrm>
              <a:off x="1547640" y="4652640"/>
              <a:ext cx="25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環保園內的機器有沒有被全面使用？那代表甚麼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2"/>
          <p:cNvSpPr/>
          <p:nvPr/>
        </p:nvSpPr>
        <p:spPr>
          <a:xfrm>
            <a:off x="7046280" y="62373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404640"/>
            <a:ext cx="40942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社會文化（資料一、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風氣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分類意識不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認知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錯誤使用回收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900-18E6-44DA-B710-07A37EC081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5003640" y="692280"/>
            <a:ext cx="3600720" cy="2592360"/>
            <a:chOff x="5003640" y="692280"/>
            <a:chExt cx="3600720" cy="2592360"/>
          </a:xfrm>
        </p:grpSpPr>
        <p:sp>
          <p:nvSpPr>
            <p:cNvPr id="249" name="Cloud Callout 7"/>
            <p:cNvSpPr/>
            <p:nvPr/>
          </p:nvSpPr>
          <p:spPr>
            <a:xfrm>
              <a:off x="5003640" y="692280"/>
              <a:ext cx="3600720" cy="2592360"/>
            </a:xfrm>
            <a:prstGeom prst="cloudCallout">
              <a:avLst>
                <a:gd name="adj1" fmla="val 34777"/>
                <a:gd name="adj2" fmla="val 47712"/>
              </a:avLst>
            </a:prstGeom>
            <a:solidFill>
              <a:srgbClr val="db23db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0"/>
            <p:cNvSpPr/>
            <p:nvPr/>
          </p:nvSpPr>
          <p:spPr>
            <a:xfrm>
              <a:off x="5506920" y="1393200"/>
              <a:ext cx="23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市民的甚麼行為展示了香港的環保風氣甚弱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1"/>
          <p:cNvSpPr/>
          <p:nvPr/>
        </p:nvSpPr>
        <p:spPr>
          <a:xfrm>
            <a:off x="3840480" y="609300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恵保火塑膠產品有限公司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http://img.diytrade.com/cdimg/843308/23776554/0/1320129731.jpg"/>
          <p:cNvPicPr/>
          <p:nvPr/>
        </p:nvPicPr>
        <p:blipFill>
          <a:blip r:embed="rId1"/>
          <a:stretch/>
        </p:blipFill>
        <p:spPr>
          <a:xfrm>
            <a:off x="826920" y="3691080"/>
            <a:ext cx="5268960" cy="240192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9"/>
          <p:cNvGrpSpPr/>
          <p:nvPr/>
        </p:nvGrpSpPr>
        <p:grpSpPr>
          <a:xfrm>
            <a:off x="6005880" y="3572280"/>
            <a:ext cx="3138120" cy="2301120"/>
            <a:chOff x="6005880" y="3572280"/>
            <a:chExt cx="3138120" cy="2301120"/>
          </a:xfrm>
        </p:grpSpPr>
        <p:sp>
          <p:nvSpPr>
            <p:cNvPr id="254" name="Cloud Callout 8"/>
            <p:cNvSpPr/>
            <p:nvPr/>
          </p:nvSpPr>
          <p:spPr>
            <a:xfrm rot="21255600">
              <a:off x="6099120" y="3714840"/>
              <a:ext cx="2951280" cy="20160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db23db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9"/>
            <p:cNvSpPr/>
            <p:nvPr/>
          </p:nvSpPr>
          <p:spPr>
            <a:xfrm>
              <a:off x="6543360" y="4282560"/>
              <a:ext cx="22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對塑膠回收量有甚麼影響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人說：「自</a:t>
            </a:r>
            <a:r>
              <a:rPr b="0" lang="en-US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5</a:t>
            </a: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起，塑膠回收量不量上升，證明香港市民的環保意識有顯著的進步。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有</a:t>
            </a:r>
            <a:r>
              <a:rPr b="1" i="1" lang="zh-TW" sz="3600" spc="-1" strike="noStrike">
                <a:solidFill>
                  <a:srgbClr val="ff0000"/>
                </a:solidFill>
                <a:latin typeface="新細明體"/>
                <a:ea typeface="新細明體"/>
              </a:rPr>
              <a:t>多大程度</a:t>
            </a: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認同他的論點？為甚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219F-84AC-4244-8061-1EA2DF3B84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042920" y="549360"/>
          <a:ext cx="7850160" cy="5616360"/>
        </p:xfrm>
        <a:graphic>
          <a:graphicData uri="http://schemas.openxmlformats.org/drawingml/2006/table">
            <a:tbl>
              <a:tblPr/>
              <a:tblGrid>
                <a:gridCol w="3816360"/>
                <a:gridCol w="4033800"/>
              </a:tblGrid>
              <a:tr h="11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同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不同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6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社區回收計劃成績理想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政府與學校合辦不少回收及教育活動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膠袋徴費計劃成效顯著（資料三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塑膠廢物量仍不斷上升（圖表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很多市民仍以為只有膠樽可回收（資料一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塑膠廢物回收率仍有待改善（資料二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cc99"/>
                        </a:buClr>
                        <a:buFont typeface="Wingdings" charset="2"/>
                        <a:buChar char="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替代膠袋的物品使用量大增（資料三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Slide Number Placeholder 3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326-F556-4678-B341-3418AF24E9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1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綜合以上討論，試評論香港市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生活習慣，並探討這些習慣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問題的關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D6D3-F3F7-442F-AB76-040C7909F5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3925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即棄的習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量使用膠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使用即用即棄餐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5003640" y="558720"/>
            <a:ext cx="3652920" cy="531828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6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9BE-0E78-41D7-9B99-90816F41D2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6948360" y="587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水墨畫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Horizontal Scroll 8"/>
          <p:cNvSpPr/>
          <p:nvPr/>
        </p:nvSpPr>
        <p:spPr>
          <a:xfrm>
            <a:off x="1116000" y="3573360"/>
            <a:ext cx="3600360" cy="2590920"/>
          </a:xfrm>
          <a:prstGeom prst="horizontalScroll">
            <a:avLst>
              <a:gd name="adj" fmla="val 12500"/>
            </a:avLst>
          </a:prstGeom>
          <a:solidFill>
            <a:srgbClr val="c9838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1620720" y="4149720"/>
            <a:ext cx="295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能舉出更多香港市民的即棄習慣嗎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你知道</a:t>
            </a:r>
            <a:r>
              <a:rPr b="1" lang="en-US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9720" y="1268280"/>
            <a:ext cx="7983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佔香港整體都市固體廢物多少個百分比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塑膠廢物回收的趨勢是怎樣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怎樣解釋香港塑膠廢物回收的趨勢嗎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文化與塑膠廢物的製造有甚麼關係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9AB-5B92-49C6-8469-8C813D0955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4392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方便為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未飲完的塑膠容器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入回收箱（資料一）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有清理塑膠廢物便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之投入回收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75640" y="60213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香港減廢網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7521-3A9C-4E9F-B52D-DA97E14106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orizontal Scroll 8"/>
          <p:cNvSpPr/>
          <p:nvPr/>
        </p:nvSpPr>
        <p:spPr>
          <a:xfrm>
            <a:off x="1042920" y="3789360"/>
            <a:ext cx="3673440" cy="244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547640" y="4348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知道我們的「方便」如何使他人「麻煩」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3"/>
          <p:cNvGrpSpPr/>
          <p:nvPr/>
        </p:nvGrpSpPr>
        <p:grpSpPr>
          <a:xfrm>
            <a:off x="4932360" y="3789360"/>
            <a:ext cx="2087640" cy="2232000"/>
            <a:chOff x="4932360" y="3789360"/>
            <a:chExt cx="2087640" cy="2232000"/>
          </a:xfrm>
        </p:grpSpPr>
        <p:pic>
          <p:nvPicPr>
            <p:cNvPr id="281" name="Picture 8" descr=""/>
            <p:cNvPicPr/>
            <p:nvPr/>
          </p:nvPicPr>
          <p:blipFill>
            <a:blip r:embed="rId1"/>
            <a:stretch/>
          </p:blipFill>
          <p:spPr>
            <a:xfrm>
              <a:off x="5032440" y="4277520"/>
              <a:ext cx="1987560" cy="17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9" descr=""/>
            <p:cNvPicPr/>
            <p:nvPr/>
          </p:nvPicPr>
          <p:blipFill>
            <a:blip r:embed="rId2"/>
            <a:srcRect l="7126" t="-14837" r="9778" b="-4146"/>
            <a:stretch/>
          </p:blipFill>
          <p:spPr>
            <a:xfrm>
              <a:off x="4932360" y="3789360"/>
              <a:ext cx="2087640" cy="64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Group 14" descr=""/>
          <p:cNvPicPr/>
          <p:nvPr/>
        </p:nvPicPr>
        <p:blipFill>
          <a:blip r:embed="rId3"/>
          <a:stretch/>
        </p:blipFill>
        <p:spPr>
          <a:xfrm>
            <a:off x="5084640" y="944640"/>
            <a:ext cx="3864240" cy="51321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3888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消費型的生活形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過度消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購買非必要的用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如：常更換手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電子產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95800" cy="419256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1E7-571C-4D95-8E8E-6E4D7D30F5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554960" y="579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太陽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orizontal Scroll 9"/>
          <p:cNvSpPr/>
          <p:nvPr/>
        </p:nvSpPr>
        <p:spPr>
          <a:xfrm>
            <a:off x="1042920" y="3716280"/>
            <a:ext cx="3384720" cy="237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1403280" y="4184640"/>
            <a:ext cx="316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以上生活形態和塑膠廢物的關係是甚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進階思考</a:t>
            </a:r>
            <a:r>
              <a:rPr b="1" lang="en-US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綜合以上討論，你能點出現時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政府政策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、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教育推廣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</a:t>
            </a:r>
            <a:r>
              <a:rPr b="1" i="1" lang="zh-TW" sz="4000" spc="-1" strike="noStrike">
                <a:solidFill>
                  <a:srgbClr val="00cc99"/>
                </a:solidFill>
                <a:latin typeface="新細明體"/>
                <a:ea typeface="新細明體"/>
              </a:rPr>
              <a:t>經濟考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三方面，有些甚麼不利因素以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未能減低塑膠廢物的製造量，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lang="zh-TW" sz="4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提升其回收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0AE-F75C-4997-9AD6-B139466D6B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55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推行政策力度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地區推廣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設施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發展回收工業資源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0B05-4BF1-4AF3-8321-C0F9FB7221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反思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若香港回收塑膠廢物的情況沒有改善，對社會環境會有甚麼影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認為自己有否奉行「</a:t>
            </a:r>
            <a:r>
              <a:rPr b="1" i="1" lang="zh-TW" sz="3200" spc="-1" strike="noStrike">
                <a:solidFill>
                  <a:srgbClr val="ff0000"/>
                </a:solidFill>
                <a:latin typeface="新細明體"/>
                <a:ea typeface="新細明體"/>
              </a:rPr>
              <a:t>方便為本、即用即棄、消費型的生活習慣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」這些生活方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2EE-DE41-4E0D-AA4E-5965C37D83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1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1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廢物佔香港都市固體廢物的百分比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2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塑膠廢物的回收趨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新細明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3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從不同方面解釋香港塑膠廢物回收的趨勢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3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新細明體"/>
                <a:ea typeface="新細明體"/>
              </a:rPr>
              <a:t>4. </a:t>
            </a:r>
            <a:r>
              <a:rPr b="0" lang="zh-TW" sz="31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人的生活文化與塑膠廢物製造的關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74888"/>
                </a:solidFill>
                <a:latin typeface="新細明體"/>
                <a:ea typeface="新細明體"/>
              </a:rPr>
              <a:t>課節完結前，你能夠回答以下問題嗎？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F144-2F0C-4611-8DDC-7BF4FC7521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8028000" y="1052640"/>
            <a:ext cx="100800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兩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1258920" y="2197080"/>
            <a:ext cx="5041800" cy="100764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回收量近十年雖有上升趨勢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但廢物量仍居高不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187280" y="3852720"/>
            <a:ext cx="770580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個人習慣、政府政策、教育推廣、經濟考慮、社會文化都會影響塑膠回收的果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1187280" y="5589720"/>
            <a:ext cx="7056720" cy="55080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新細明體"/>
                <a:ea typeface="新細明體"/>
              </a:rPr>
              <a:t>方便為本、即用即棄、消費型的生活習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Callout 10"/>
          <p:cNvSpPr/>
          <p:nvPr/>
        </p:nvSpPr>
        <p:spPr>
          <a:xfrm>
            <a:off x="1403280" y="2060640"/>
            <a:ext cx="7020000" cy="33130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最重要是要改善日常的生活態度，摒棄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500" spc="-1" strike="noStrike">
                <a:solidFill>
                  <a:srgbClr val="ff0000"/>
                </a:solidFill>
                <a:latin typeface="新細明體"/>
                <a:ea typeface="新細明體"/>
              </a:rPr>
              <a:t>方便主義、即棄文化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500" spc="-1" strike="noStrike">
                <a:solidFill>
                  <a:srgbClr val="ff0000"/>
                </a:solidFill>
                <a:latin typeface="新細明體"/>
                <a:ea typeface="新細明體"/>
              </a:rPr>
              <a:t>消費型的生活習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圖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Cloud Callout 5"/>
          <p:cNvSpPr/>
          <p:nvPr/>
        </p:nvSpPr>
        <p:spPr>
          <a:xfrm>
            <a:off x="539640" y="260280"/>
            <a:ext cx="4321440" cy="1944720"/>
          </a:xfrm>
          <a:prstGeom prst="cloudCallout">
            <a:avLst>
              <a:gd name="adj1" fmla="val 25500"/>
              <a:gd name="adj2" fmla="val 56824"/>
            </a:avLst>
          </a:prstGeom>
          <a:solidFill>
            <a:srgbClr val="37e966">
              <a:alpha val="71000"/>
            </a:srgbClr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Cloud Callout 6"/>
          <p:cNvGrpSpPr/>
          <p:nvPr/>
        </p:nvGrpSpPr>
        <p:grpSpPr>
          <a:xfrm>
            <a:off x="4352760" y="1163520"/>
            <a:ext cx="4426200" cy="2554560"/>
            <a:chOff x="4352760" y="1163520"/>
            <a:chExt cx="4426200" cy="2554560"/>
          </a:xfrm>
        </p:grpSpPr>
        <p:pic>
          <p:nvPicPr>
            <p:cNvPr id="117" name="Cloud Callout 6" descr=""/>
            <p:cNvPicPr/>
            <p:nvPr/>
          </p:nvPicPr>
          <p:blipFill>
            <a:blip r:embed="rId3"/>
            <a:stretch/>
          </p:blipFill>
          <p:spPr>
            <a:xfrm>
              <a:off x="4352760" y="1163520"/>
              <a:ext cx="4426200" cy="25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22720" y="1522440"/>
              <a:ext cx="282276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loud Callout 7"/>
          <p:cNvSpPr/>
          <p:nvPr/>
        </p:nvSpPr>
        <p:spPr>
          <a:xfrm>
            <a:off x="250920" y="2781360"/>
            <a:ext cx="4033800" cy="2232000"/>
          </a:xfrm>
          <a:prstGeom prst="cloudCallout">
            <a:avLst>
              <a:gd name="adj1" fmla="val 20999"/>
              <a:gd name="adj2" fmla="val 57972"/>
            </a:avLst>
          </a:prstGeom>
          <a:solidFill>
            <a:srgbClr val="ffc000">
              <a:alpha val="88000"/>
            </a:srgbClr>
          </a:solidFill>
          <a:ln w="28440">
            <a:solidFill>
              <a:srgbClr val="c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 Callout 8"/>
          <p:cNvSpPr/>
          <p:nvPr/>
        </p:nvSpPr>
        <p:spPr>
          <a:xfrm>
            <a:off x="4427640" y="3860640"/>
            <a:ext cx="4319640" cy="2448000"/>
          </a:xfrm>
          <a:prstGeom prst="cloudCallout">
            <a:avLst>
              <a:gd name="adj1" fmla="val -43462"/>
              <a:gd name="adj2" fmla="val -57564"/>
            </a:avLst>
          </a:prstGeom>
          <a:solidFill>
            <a:srgbClr val="85ffe0">
              <a:alpha val="79000"/>
            </a:srgbClr>
          </a:solidFill>
          <a:ln w="38160">
            <a:solidFill>
              <a:srgbClr val="0070c0"/>
            </a:solidFill>
            <a:prstDash val="lgDashDotDot"/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58920" y="692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4d"/>
                </a:solidFill>
                <a:latin typeface="新細明體"/>
                <a:ea typeface="新細明體"/>
              </a:rPr>
              <a:t>香港每年的廢物量有甚麼變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148360" y="16128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主要的都市固體廢物可分為哪些類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148360" y="43657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6165d"/>
                </a:solidFill>
                <a:latin typeface="新細明體"/>
                <a:ea typeface="新細明體"/>
              </a:rPr>
              <a:t>市民的生活習慣對塑膠廢物量有甚麼影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826920" y="3411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33"/>
                </a:solidFill>
                <a:latin typeface="新細明體"/>
                <a:ea typeface="新細明體"/>
              </a:rPr>
              <a:t>香港用甚麼方法處理塑膠廢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6300720" y="648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圖片來源：環保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4B10-9273-49EA-BE49-1852C96ACA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620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產生的都市固體廢物有哪些主要類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1" i="1" lang="zh-TW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金屬、玻璃、塑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料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紙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料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易腐爛的廢物（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如：食物渣滓、園林廢物</a:t>
            </a:r>
            <a:r>
              <a:rPr b="1" i="1" lang="zh-CN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）、木材</a:t>
            </a: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、紡織品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當中不同類型所佔的比重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試就</a:t>
            </a:r>
            <a:r>
              <a:rPr b="0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圓瓣圖的比重，作出推測，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把答案填入圖中空格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E34-F2E0-4201-A7C0-A3EBB4310A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試猜猜</a:t>
            </a:r>
            <a:r>
              <a:rPr b="1" lang="en-US" sz="4400" spc="-1" strike="noStrike">
                <a:solidFill>
                  <a:srgbClr val="074888"/>
                </a:solidFill>
                <a:latin typeface="新細明體"/>
                <a:ea typeface="新細明體"/>
              </a:rPr>
              <a:t>…</a:t>
            </a: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403280" y="5589720"/>
            <a:ext cx="2232000" cy="520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70c0"/>
                </a:solidFill>
                <a:latin typeface="新細明體"/>
                <a:ea typeface="新細明體"/>
              </a:rPr>
              <a:t>完成圖表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哪些廢物類別佔香港都市固體廢物比率最高？</a:t>
            </a:r>
            <a:endParaRPr b="1" lang="en-US" sz="32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357D-40BA-4BA7-BD28-E157E65194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936720" y="1816200"/>
            <a:ext cx="8028000" cy="3384360"/>
            <a:chOff x="936720" y="1816200"/>
            <a:chExt cx="8028000" cy="3384360"/>
          </a:xfrm>
        </p:grpSpPr>
        <p:pic>
          <p:nvPicPr>
            <p:cNvPr id="136" name="Picture 12" descr="2009及2010年都市固體廢物的成分 - 主要成分分類 - empty space"/>
            <p:cNvPicPr/>
            <p:nvPr/>
          </p:nvPicPr>
          <p:blipFill>
            <a:blip r:embed="rId1"/>
            <a:srcRect l="0" t="0" r="0" b="79914"/>
            <a:stretch/>
          </p:blipFill>
          <p:spPr>
            <a:xfrm>
              <a:off x="936720" y="1816200"/>
              <a:ext cx="8028000" cy="3384360"/>
            </a:xfrm>
            <a:prstGeom prst="rect">
              <a:avLst/>
            </a:prstGeom>
            <a:ln w="19080">
              <a:solidFill>
                <a:srgbClr val="00b050"/>
              </a:solidFill>
              <a:miter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1239840" y="232740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2175840" y="1972440"/>
              <a:ext cx="4086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"/>
            <p:cNvSpPr/>
            <p:nvPr/>
          </p:nvSpPr>
          <p:spPr>
            <a:xfrm>
              <a:off x="3936600" y="214380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Text Box 8"/>
            <p:cNvGrpSpPr/>
            <p:nvPr/>
          </p:nvGrpSpPr>
          <p:grpSpPr>
            <a:xfrm>
              <a:off x="4870800" y="2298600"/>
              <a:ext cx="944640" cy="329040"/>
              <a:chOff x="4870800" y="2298600"/>
              <a:chExt cx="944640" cy="329040"/>
            </a:xfrm>
          </p:grpSpPr>
          <p:pic>
            <p:nvPicPr>
              <p:cNvPr id="141" name="Text Box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0800" y="229860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897440" y="2320560"/>
                <a:ext cx="899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Text Box 7"/>
            <p:cNvGrpSpPr/>
            <p:nvPr/>
          </p:nvGrpSpPr>
          <p:grpSpPr>
            <a:xfrm>
              <a:off x="6132240" y="1938600"/>
              <a:ext cx="944640" cy="329040"/>
              <a:chOff x="6132240" y="1938600"/>
              <a:chExt cx="944640" cy="329040"/>
            </a:xfrm>
          </p:grpSpPr>
          <p:pic>
            <p:nvPicPr>
              <p:cNvPr id="144" name="Text 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132240" y="193860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156000" y="1960200"/>
                <a:ext cx="9000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B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Text Box 6"/>
            <p:cNvGrpSpPr/>
            <p:nvPr/>
          </p:nvGrpSpPr>
          <p:grpSpPr>
            <a:xfrm>
              <a:off x="7680600" y="2079360"/>
              <a:ext cx="944640" cy="335160"/>
              <a:chOff x="7680600" y="2079360"/>
              <a:chExt cx="944640" cy="335160"/>
            </a:xfrm>
          </p:grpSpPr>
          <p:pic>
            <p:nvPicPr>
              <p:cNvPr id="147" name="Text Box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680600" y="2079360"/>
                <a:ext cx="9446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7704360" y="2104920"/>
                <a:ext cx="9000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C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Rectangle 12"/>
          <p:cNvSpPr/>
          <p:nvPr/>
        </p:nvSpPr>
        <p:spPr>
          <a:xfrm>
            <a:off x="1215000" y="927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659320" y="1314000"/>
            <a:ext cx="46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09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都市固體廢物的成分－主要成分分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836640" y="5275800"/>
            <a:ext cx="819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註 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(1)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「其他」包括紡織物、木材／藤料、家居有害廢物及其他未分類的廢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00000" y="189000"/>
            <a:ext cx="1452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正確答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433-C8F7-44FE-8305-5E4A9F6534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936720" y="1628640"/>
            <a:ext cx="8028000" cy="3384720"/>
            <a:chOff x="936720" y="1628640"/>
            <a:chExt cx="8028000" cy="3384720"/>
          </a:xfrm>
        </p:grpSpPr>
        <p:pic>
          <p:nvPicPr>
            <p:cNvPr id="157" name="Picture 12" descr="2009及2010年都市固體廢物的成分 - 主要成分分類 - empty space"/>
            <p:cNvPicPr/>
            <p:nvPr/>
          </p:nvPicPr>
          <p:blipFill>
            <a:blip r:embed="rId1"/>
            <a:srcRect l="0" t="0" r="0" b="79914"/>
            <a:stretch/>
          </p:blipFill>
          <p:spPr>
            <a:xfrm>
              <a:off x="936720" y="1628640"/>
              <a:ext cx="8028000" cy="3384720"/>
            </a:xfrm>
            <a:prstGeom prst="rect">
              <a:avLst/>
            </a:prstGeom>
            <a:ln w="19080">
              <a:solidFill>
                <a:srgbClr val="00b050"/>
              </a:solidFill>
              <a:miter/>
            </a:ln>
          </p:spPr>
        </p:pic>
        <p:sp>
          <p:nvSpPr>
            <p:cNvPr id="158" name="Text Box 11"/>
            <p:cNvSpPr/>
            <p:nvPr/>
          </p:nvSpPr>
          <p:spPr>
            <a:xfrm>
              <a:off x="1239840" y="213984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2175840" y="1784880"/>
              <a:ext cx="4086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3936600" y="1956240"/>
              <a:ext cx="40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Text Box 8"/>
            <p:cNvGrpSpPr/>
            <p:nvPr/>
          </p:nvGrpSpPr>
          <p:grpSpPr>
            <a:xfrm>
              <a:off x="4870800" y="2109240"/>
              <a:ext cx="944640" cy="329040"/>
              <a:chOff x="4870800" y="2109240"/>
              <a:chExt cx="944640" cy="329040"/>
            </a:xfrm>
          </p:grpSpPr>
          <p:pic>
            <p:nvPicPr>
              <p:cNvPr id="162" name="Text Box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0800" y="2109240"/>
                <a:ext cx="94464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4897440" y="2133000"/>
                <a:ext cx="899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A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新細明體"/>
                    <a:ea typeface="新細明體"/>
                  </a:rPr>
                  <a:t>玻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Text Box 7"/>
            <p:cNvGrpSpPr/>
            <p:nvPr/>
          </p:nvGrpSpPr>
          <p:grpSpPr>
            <a:xfrm>
              <a:off x="6059160" y="1749240"/>
              <a:ext cx="908280" cy="329040"/>
              <a:chOff x="6059160" y="1749240"/>
              <a:chExt cx="908280" cy="329040"/>
            </a:xfrm>
          </p:grpSpPr>
          <p:pic>
            <p:nvPicPr>
              <p:cNvPr id="165" name="Text 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059160" y="1749240"/>
                <a:ext cx="90828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6083640" y="1772640"/>
                <a:ext cx="8643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B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塑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Text Box 6"/>
            <p:cNvGrpSpPr/>
            <p:nvPr/>
          </p:nvGrpSpPr>
          <p:grpSpPr>
            <a:xfrm>
              <a:off x="7284960" y="1890000"/>
              <a:ext cx="1627920" cy="335520"/>
              <a:chOff x="7284960" y="1890000"/>
              <a:chExt cx="1627920" cy="335520"/>
            </a:xfrm>
          </p:grpSpPr>
          <p:pic>
            <p:nvPicPr>
              <p:cNvPr id="168" name="Text Box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284960" y="1890000"/>
                <a:ext cx="1627920" cy="3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7308360" y="1917360"/>
                <a:ext cx="158436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36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C</a:t>
                </a: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：</a:t>
                </a:r>
                <a:r>
                  <a:rPr b="1" lang="zh-TW" sz="1400" spc="-1" strike="noStrike">
                    <a:solidFill>
                      <a:srgbClr val="ff0000"/>
                    </a:solidFill>
                    <a:latin typeface="Times New Roman"/>
                    <a:ea typeface="新細明體"/>
                  </a:rPr>
                  <a:t>易腐爛的廢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3"/>
          <p:cNvSpPr/>
          <p:nvPr/>
        </p:nvSpPr>
        <p:spPr>
          <a:xfrm>
            <a:off x="1287360" y="74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tangle 14" descr=""/>
          <p:cNvPicPr/>
          <p:nvPr/>
        </p:nvPicPr>
        <p:blipFill>
          <a:blip r:embed="rId5"/>
          <a:stretch/>
        </p:blipFill>
        <p:spPr>
          <a:xfrm>
            <a:off x="1736640" y="1085760"/>
            <a:ext cx="6469200" cy="474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5"/>
          <p:cNvSpPr/>
          <p:nvPr/>
        </p:nvSpPr>
        <p:spPr>
          <a:xfrm>
            <a:off x="836640" y="5088600"/>
            <a:ext cx="819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註 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(1)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「其他」包括紡織物、木材／藤料、家居有害廢物及其他未分類的廢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Callout 16"/>
          <p:cNvSpPr/>
          <p:nvPr/>
        </p:nvSpPr>
        <p:spPr>
          <a:xfrm>
            <a:off x="684360" y="3068640"/>
            <a:ext cx="8459640" cy="3600360"/>
          </a:xfrm>
          <a:prstGeom prst="cloudCallout">
            <a:avLst>
              <a:gd name="adj1" fmla="val -23106"/>
              <a:gd name="adj2" fmla="val 53587"/>
            </a:avLst>
          </a:prstGeom>
          <a:solidFill>
            <a:srgbClr val="00cc99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香港的塑膠廢物分別佔都市固體廢物的比重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其比重在這一年之間有何變化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你對這變化有何看法？是否嚴重？是否令人擔憂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074888"/>
                </a:solidFill>
                <a:uFillTx/>
                <a:latin typeface="新細明體"/>
                <a:ea typeface="新細明體"/>
              </a:rPr>
              <a:t>香港塑膠廢物的回收趨勢</a:t>
            </a:r>
            <a:endParaRPr b="1" lang="en-US" sz="36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175" name="Slide Number Placeholder 8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385-EB2E-48D6-9354-D37708315E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553080" cy="4678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037520" y="927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072240" y="11278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99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至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回收的都市固體廢物統計數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659640" y="61711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 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資料來源：環保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橢圓形圖說文字 7"/>
          <p:cNvSpPr/>
          <p:nvPr/>
        </p:nvSpPr>
        <p:spPr>
          <a:xfrm>
            <a:off x="6300720" y="71280"/>
            <a:ext cx="2735280" cy="1989360"/>
          </a:xfrm>
          <a:prstGeom prst="wedgeEllipseCallout">
            <a:avLst>
              <a:gd name="adj1" fmla="val -42152"/>
              <a:gd name="adj2" fmla="val 52194"/>
            </a:avLst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4d"/>
                </a:solidFill>
                <a:latin typeface="新細明體"/>
                <a:ea typeface="新細明體"/>
              </a:rPr>
              <a:t>都市固體廢物回收的整體情況是怎樣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4d"/>
                </a:solidFill>
                <a:latin typeface="新細明體"/>
                <a:ea typeface="新細明體"/>
              </a:rPr>
              <a:t>有甚麼變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8228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822-2404-4DF9-9420-D7627ABF2A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037520" y="927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圖表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160080" y="1528200"/>
            <a:ext cx="39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99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至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2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回收的塑膠廢物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357" t="19565" r="1357" b="3913"/>
          <a:stretch/>
        </p:blipFill>
        <p:spPr>
          <a:xfrm>
            <a:off x="1042920" y="1989000"/>
            <a:ext cx="7567560" cy="3456000"/>
          </a:xfrm>
          <a:prstGeom prst="rect">
            <a:avLst/>
          </a:prstGeom>
          <a:ln w="0">
            <a:noFill/>
          </a:ln>
        </p:spPr>
      </p:pic>
      <p:sp>
        <p:nvSpPr>
          <p:cNvPr id="187" name="橢圓形圖說文字 5"/>
          <p:cNvSpPr/>
          <p:nvPr/>
        </p:nvSpPr>
        <p:spPr>
          <a:xfrm>
            <a:off x="5364000" y="115920"/>
            <a:ext cx="3529080" cy="1297080"/>
          </a:xfrm>
          <a:prstGeom prst="wedgeEllipseCallout">
            <a:avLst>
              <a:gd name="adj1" fmla="val -20833"/>
              <a:gd name="adj2" fmla="val 5734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評論塑膠</a:t>
            </a:r>
            <a:r>
              <a:rPr b="1" lang="zh-TW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廢物</a:t>
            </a:r>
            <a:r>
              <a:rPr b="1" lang="zh-CN" sz="2800" spc="-1" strike="noStrike">
                <a:solidFill>
                  <a:srgbClr val="002060"/>
                </a:solidFill>
                <a:latin typeface="新細明體"/>
                <a:ea typeface="新細明體"/>
              </a:rPr>
              <a:t>回收的趨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群組 11"/>
          <p:cNvGrpSpPr/>
          <p:nvPr/>
        </p:nvGrpSpPr>
        <p:grpSpPr>
          <a:xfrm>
            <a:off x="3497400" y="3446280"/>
            <a:ext cx="5661720" cy="3430080"/>
            <a:chOff x="3497400" y="3446280"/>
            <a:chExt cx="5661720" cy="3430080"/>
          </a:xfrm>
        </p:grpSpPr>
        <p:grpSp>
          <p:nvGrpSpPr>
            <p:cNvPr id="189" name="Explosion 1 6"/>
            <p:cNvGrpSpPr/>
            <p:nvPr/>
          </p:nvGrpSpPr>
          <p:grpSpPr>
            <a:xfrm>
              <a:off x="3497400" y="3446280"/>
              <a:ext cx="5661720" cy="3430080"/>
              <a:chOff x="3497400" y="3446280"/>
              <a:chExt cx="5661720" cy="3430080"/>
            </a:xfrm>
          </p:grpSpPr>
          <p:pic>
            <p:nvPicPr>
              <p:cNvPr id="190" name="Explosion 1 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3497400" y="3446640"/>
                <a:ext cx="566100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577200">
                <a:off x="4825080" y="4569480"/>
                <a:ext cx="3110040" cy="11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8"/>
            <p:cNvSpPr/>
            <p:nvPr/>
          </p:nvSpPr>
          <p:spPr>
            <a:xfrm rot="577800">
              <a:off x="4957200" y="4659840"/>
              <a:ext cx="3120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新細明體"/>
                  <a:ea typeface="新細明體"/>
                </a:rPr>
                <a:t>塑膠廢物的回收進度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新細明體"/>
                  <a:ea typeface="新細明體"/>
                </a:rPr>
                <a:t>能否趕上廢物產生的速度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群組 8"/>
          <p:cNvGrpSpPr/>
          <p:nvPr/>
        </p:nvGrpSpPr>
        <p:grpSpPr>
          <a:xfrm>
            <a:off x="467280" y="3929040"/>
            <a:ext cx="4248360" cy="2928600"/>
            <a:chOff x="467280" y="3929040"/>
            <a:chExt cx="4248360" cy="2928600"/>
          </a:xfrm>
        </p:grpSpPr>
        <p:sp>
          <p:nvSpPr>
            <p:cNvPr id="194" name="Explosion 1 4"/>
            <p:cNvSpPr/>
            <p:nvPr/>
          </p:nvSpPr>
          <p:spPr>
            <a:xfrm rot="21198600">
              <a:off x="597960" y="4152600"/>
              <a:ext cx="3986280" cy="2481120"/>
            </a:xfrm>
            <a:prstGeom prst="irregularSeal1">
              <a:avLst/>
            </a:prstGeom>
            <a:solidFill>
              <a:srgbClr val="ffff00"/>
            </a:solidFill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7"/>
            <p:cNvSpPr/>
            <p:nvPr/>
          </p:nvSpPr>
          <p:spPr>
            <a:xfrm rot="21198600">
              <a:off x="1516680" y="4806360"/>
              <a:ext cx="199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新細明體"/>
                  <a:ea typeface="新細明體"/>
                </a:rPr>
                <a:t>你認為回收情況樂觀嗎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Cloud Callout 12"/>
          <p:cNvSpPr/>
          <p:nvPr/>
        </p:nvSpPr>
        <p:spPr>
          <a:xfrm>
            <a:off x="2195640" y="1989000"/>
            <a:ext cx="5327640" cy="2519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既有回收上升的現象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為何固體廢物量仍居高不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8001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小組討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參考資料一至三，從</a:t>
            </a:r>
            <a:r>
              <a:rPr b="1" i="1" lang="zh-TW" sz="3200" spc="-1" strike="noStrike">
                <a:solidFill>
                  <a:srgbClr val="00cc99"/>
                </a:solidFill>
                <a:latin typeface="Times New Roman"/>
                <a:ea typeface="新細明體"/>
              </a:rPr>
              <a:t>不同層面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歸納原因，解釋香港塑膠回收的趨勢，並將討論結果記錄於工作紙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68664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866-2D29-4E6D-8620-6B3B3144FD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74888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66440" y="642996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9:46:34Z</dcterms:created>
  <dc:creator>HKIEd</dc:creator>
  <dc:description/>
  <cp:keywords/>
  <dc:language>en-US</dc:language>
  <cp:lastModifiedBy>HKIEd</cp:lastModifiedBy>
  <cp:lastPrinted>1899-12-30T00:00:00Z</cp:lastPrinted>
  <dcterms:modified xsi:type="dcterms:W3CDTF">2013-02-25T01:34:46Z</dcterms:modified>
  <cp:revision>159</cp:revision>
  <dc:subject/>
  <dc:title>塑膠廢物知多少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6.6.0.2496</vt:lpwstr>
  </property>
</Properties>
</file>